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E3B-3640-4D33-AC16-31AE79EF3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каз видеороликов о применении явления электромагнитной индукции: детектор металлов, запись информации на магнитные носители и чтение с них – диск «Физика 7-11 классы. Библиотека наглядных пособий» Образовательные компл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E84B-B51A-4098-A227-E0B9AD6F96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случая учитель разбирает сам, составляя план решения на доске, два остальных случая учащиеся по плану выполняют самостоятельно в тетрадях, двух учеников можно вызвать к доске. А можно, чтобы учащиеся провели взаимоконтроль друг у друга по рисункам 3 и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F874-9E5D-4857-B1EB-7143FC15CC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D84-9E1A-43F7-9962-144EFAAFCD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ребятам отвечать кратко на эти вопросы (закрепление тем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689-C436-4C65-B5BB-0D6380C507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2A0-0532-47A1-89D8-4357C034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91D-0497-47FE-AFDD-23CE4E4D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683-58B7-4FBF-89B9-29EAE1A0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F6D-D58B-46CC-8525-0C9A30B9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87D-02F0-4740-8F35-A386987A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79C-110C-4CFB-9852-BCC2473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EAF-FEC6-4473-BDD6-0F56CCB8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38D-8A60-4A00-881F-4E03887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1CE-83C6-46B7-A0D2-805F0D4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9BA-989A-4189-89D8-9E603A1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4D0-234F-4C62-B66F-207455B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211-68AA-45EF-AAB2-F778929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E56-8E3D-467D-A55B-2223E082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fizika/Magnit/0002-001-OPYTY-FARADEJA-po-obnaruzheniju-javlenija-elektromagnitnoj-induktsi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static.z-dn.net/files/d69/aa6684a736afd979b12135ae7361ac18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ig-change.narod.ru/prezent/pr_11_01/1000/pr_11_01_0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d.exdat.com/pars_docs/tw_refs/711/710231/710231_html_158df35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datai/fizika/Zakon-elektromagnitnoj-induktsii/0004-003-Opyty-Faradej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arianna-mir.com/img/s_Michael%20Fara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g-change.narod.ru/prezent/pr_11_01/1000/pr_11_01_08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900igr.net/datai/fizika/Zakon-elektromagnitnoj-induktsii/0004-005-Opyty-Faradeja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900igr.net/datai/fizika/Zakon-elektromagnitnoj-induktsii/0004-004-Opyty-Faradeja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114/160350973.29/0_7adc5_271a6810_X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5klass.net/datas/fizika/Fizika-elektromagnitnaja-induktsija/0008-008-Pravilo-Lentsa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ig-change.narod.ru/prezent/pr_11_01/1000/pr_11_01_06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5klass.net/datas/fizika/Elektromagnitnaja-induktsija-11-klass/0007-007-Elektromagnitnaja-induktsija-11-klas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nx.org/content/m32149/latest/graphics8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i/fizika/Magnitnoe-pole-toka/0010-011-Galvanicheskij-element-GE-khimicheskij-istochnik-elektricheskogo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ok.opredelim.com/pars_docs/refs/13/12089/img1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900igr.net/datas/fizika/Elektricheskij-tok-v-zhidkostjakh/0014-014-Majkl-Faradej-velikij-anglijskij-uchjonyj-tvorets-obschego-uchenija-o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-science.ru/img/images/theory/electrodyn/magnetizm/m1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-science.ru/img/images/theory/electrodyn/magnetizm/m1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вление электромагнитной индукци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втор –соста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остенко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00280"/>
            <a:ext cx="3744720" cy="316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263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Физика - 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ассмотрим магн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144440"/>
            <a:ext cx="6985080" cy="480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95008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Что вы можете сказать о магн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гда мы вносим магнит в замкнутый контур катушки, что у него изменя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 будет ли возникать ток, если магнит не подвижен, а катушка движ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76640"/>
            <a:ext cx="8964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бъясните, что вы видите на этом опыте? Сделайте 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73360"/>
            <a:ext cx="84247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 чём причина возникновения индукционного тока в катуш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чиной возникновения индукционного тока в замкнутом контуре (катушке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является изменение магнитного пото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числа линий магнитной индукции) через замкнутый контур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Это явление называется явление электромагнитной индукци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Электромагнитная индукция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слово латинское, означает «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авед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251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084280"/>
            <a:ext cx="4176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глийский учёный Майкл Фарадей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791 – 1867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1128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Фарадей смог «превратить магнетизм в электричество» и показал тесную взаимосвязь между электрическим и магнитным по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" y="46080"/>
            <a:ext cx="3865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вление электромагнитной индукции нашло широкое применение в технике и широко используется в технических устройствах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трансформ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поезда на магнитной под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детекторы металлов (металлоискат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 запись информации на магнитные носители и чтение с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. электропечи для плавки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 и.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res03A716DD-5C0C-4571-90A6-930E1DA1B755"/>
          <p:cNvPicPr/>
          <p:nvPr/>
        </p:nvPicPr>
        <p:blipFill>
          <a:blip r:embed="rId1"/>
          <a:stretch/>
        </p:blipFill>
        <p:spPr>
          <a:xfrm>
            <a:off x="324000" y="1341360"/>
            <a:ext cx="2106360" cy="1643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0" name="Rectangle 7"/>
          <p:cNvSpPr/>
          <p:nvPr/>
        </p:nvSpPr>
        <p:spPr>
          <a:xfrm flipH="1">
            <a:off x="279360" y="9507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деомагнитоф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res012B1504-B48F-4B1D-BCC9-9B4813023266"/>
          <p:cNvPicPr/>
          <p:nvPr/>
        </p:nvPicPr>
        <p:blipFill>
          <a:blip r:embed="rId2"/>
          <a:stretch/>
        </p:blipFill>
        <p:spPr>
          <a:xfrm>
            <a:off x="6804000" y="1197000"/>
            <a:ext cx="1871640" cy="1590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 flipV="1" rot="10800000">
            <a:off x="6191280" y="8355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сткий диск компьют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resAED00676-05EA-46D2-BAA4-60C1CCA8661B"/>
          <p:cNvPicPr/>
          <p:nvPr/>
        </p:nvPicPr>
        <p:blipFill>
          <a:blip r:embed="rId3"/>
          <a:stretch/>
        </p:blipFill>
        <p:spPr>
          <a:xfrm>
            <a:off x="2627280" y="1050840"/>
            <a:ext cx="3475080" cy="1438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3192120" y="24908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тектор полицейск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es375CFF9B-7B1F-4CFC-8794-10D7163C24B6"/>
          <p:cNvPicPr/>
          <p:nvPr/>
        </p:nvPicPr>
        <p:blipFill>
          <a:blip r:embed="rId4"/>
          <a:stretch/>
        </p:blipFill>
        <p:spPr>
          <a:xfrm>
            <a:off x="6500880" y="3695760"/>
            <a:ext cx="2411280" cy="186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Box 9"/>
          <p:cNvSpPr/>
          <p:nvPr/>
        </p:nvSpPr>
        <p:spPr>
          <a:xfrm>
            <a:off x="6529320" y="3033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тектор металла в аэропор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res79C0F322-8627-45A6-BF46-955074630338"/>
          <p:cNvPicPr/>
          <p:nvPr/>
        </p:nvPicPr>
        <p:blipFill>
          <a:blip r:embed="rId5"/>
          <a:stretch/>
        </p:blipFill>
        <p:spPr>
          <a:xfrm>
            <a:off x="766800" y="3735360"/>
            <a:ext cx="2238480" cy="23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Box 11"/>
          <p:cNvSpPr/>
          <p:nvPr/>
        </p:nvSpPr>
        <p:spPr>
          <a:xfrm>
            <a:off x="61920" y="331488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езд на магнитной под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709292"/>
          <p:cNvPicPr/>
          <p:nvPr/>
        </p:nvPicPr>
        <p:blipFill>
          <a:blip r:embed="rId6"/>
          <a:stretch/>
        </p:blipFill>
        <p:spPr>
          <a:xfrm>
            <a:off x="3314880" y="3357720"/>
            <a:ext cx="2963520" cy="1957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3"/>
          <p:cNvSpPr/>
          <p:nvPr/>
        </p:nvSpPr>
        <p:spPr>
          <a:xfrm>
            <a:off x="4500720" y="53737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г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826920" y="18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магнитная индукция в современном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4"/>
          <p:cNvSpPr/>
          <p:nvPr/>
        </p:nvSpPr>
        <p:spPr>
          <a:xfrm rot="10800000">
            <a:off x="250560" y="6237000"/>
            <a:ext cx="64908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58327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учить явление электромагнитной инд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знакомить учащихся с правилом Ленца и умением применять его для определения направления индукционн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витие логического мышления и интеллектуальные умения учащихся (наблюдать, анализировать, делать выводы, применять полученные знания на практи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9308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 как определить направление индукционного то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484280"/>
            <a:ext cx="4067280" cy="399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628640"/>
            <a:ext cx="4896000" cy="390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589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ы видим, что направление индукционного тока разное в этих опы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2000" y="188640"/>
            <a:ext cx="601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сновываясь на законе сохранения энергии, русский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учёный Ленц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предложил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авил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о которому определяется направление индукционного т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03640" cy="458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5013360"/>
            <a:ext cx="331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усский физик Эмиль Лен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804 – 1865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" y="46080"/>
            <a:ext cx="90136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авило Ленца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применение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именим правило Ленца для следующих случа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784760" y="2451240"/>
            <a:ext cx="1725480" cy="30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924600" y="2459160"/>
            <a:ext cx="1671840" cy="305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47840" y="2421000"/>
            <a:ext cx="1728720" cy="316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2593800" y="2421000"/>
            <a:ext cx="1748160" cy="3168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611280" y="5797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2757600" y="58104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932360" y="57974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93080" y="5742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577880" y="6281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вет 1 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940360" y="62625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вет 3 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12"/>
          <p:cNvSpPr/>
          <p:nvPr/>
        </p:nvSpPr>
        <p:spPr>
          <a:xfrm rot="10800000">
            <a:off x="250560" y="6237000"/>
            <a:ext cx="64908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твет 1 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2297160" cy="46054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63440" y="63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195640" y="1482840"/>
            <a:ext cx="223200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твет 3 и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298600" cy="44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2232360" cy="4462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0" y="6308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спомним опыт датского учёного Эрсте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20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836640"/>
            <a:ext cx="2340000" cy="302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4005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77 – 1851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креп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Кто впервые с помощью магнитного поля получил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) Кулон    Б) ампер  В) Фарадей  Г) Т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Как называется явление возникновения электрического тока в замкнутом контуре при изменении магнитного потока через конт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) намагничивание  Б)электро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) электромагнитная инду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4c85742ff8b82d9897428a17c937a736"/>
          <p:cNvPicPr/>
          <p:nvPr/>
        </p:nvPicPr>
        <p:blipFill>
          <a:blip r:embed="rId1"/>
          <a:stretch/>
        </p:blipFill>
        <p:spPr>
          <a:xfrm>
            <a:off x="7459560" y="0"/>
            <a:ext cx="1684440" cy="1773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c85742ff8b82d9897428a17c937a736"/>
          <p:cNvPicPr/>
          <p:nvPr/>
        </p:nvPicPr>
        <p:blipFill>
          <a:blip r:embed="rId2"/>
          <a:stretch/>
        </p:blipFill>
        <p:spPr>
          <a:xfrm>
            <a:off x="7093080" y="4869000"/>
            <a:ext cx="1684080" cy="177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4c85742ff8b82d9897428a17c937a736"/>
          <p:cNvPicPr/>
          <p:nvPr/>
        </p:nvPicPr>
        <p:blipFill>
          <a:blip r:embed="rId3"/>
          <a:stretch/>
        </p:blipFill>
        <p:spPr>
          <a:xfrm>
            <a:off x="0" y="0"/>
            <a:ext cx="1614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При внесении магнита в катушку, замкнутую на гальванометр, в ней возникает индукционный ток. Направление тока зависит в катуш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) от скорости движения маг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) от того, каким полюсом вносим магнит в кат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тветы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№1 -3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№ 2 – 3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№ 3 –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9647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ставь себе оцен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Выполнил всё правильно – «4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Сделал два задания правильно – «3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16440" y="0"/>
            <a:ext cx="3427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Что мы изуч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Понятна ли Вам тема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В жизни Вашей эта тема урока Вам пригод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4720" y="3716280"/>
            <a:ext cx="2324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то мы сегодня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1484280"/>
            <a:ext cx="76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спомним опыты, позволяющие наблюдать это я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то открыл явление Э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 чем заключается явление Э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Что мы определяли с помощью правила Лен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именение Э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00720" y="4981680"/>
            <a:ext cx="2324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644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аши оценки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22720" y="765000"/>
            <a:ext cx="4121280" cy="498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410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пасибо за работу на уро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x_a039be77"/>
          <p:cNvPicPr/>
          <p:nvPr/>
        </p:nvPicPr>
        <p:blipFill>
          <a:blip r:embed="rId1"/>
          <a:stretch/>
        </p:blipFill>
        <p:spPr>
          <a:xfrm>
            <a:off x="1835280" y="1628640"/>
            <a:ext cx="46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8680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8756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этим опытом объяснял и доказывал Эрст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675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 может ли магнитное поле «создать» электрический то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1331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40360" y="4149720"/>
            <a:ext cx="43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осуществил опыт по получению электрического тока с помощью маг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30864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91 г. – 186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4608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то мы вид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Вывод из увиденного опыт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к, возникающий в катушке (замкнутом контуре), наз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индукцио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тличие полученного тока от известного нам ранее заключается в том, что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для его получени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е нужен источник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2637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5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чём причина возникновения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ндукционного тока в катуш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205000"/>
            <a:ext cx="5616720" cy="446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6:14:36Z</dcterms:created>
  <dc:creator>User</dc:creator>
  <dc:description/>
  <dc:language>en-US</dc:language>
  <cp:lastModifiedBy>User</cp:lastModifiedBy>
  <dcterms:modified xsi:type="dcterms:W3CDTF">2014-09-22T09:09:35Z</dcterms:modified>
  <cp:revision>10</cp:revision>
  <dc:subject/>
  <dc:title>Слайд 1</dc:title>
</cp:coreProperties>
</file>